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image5.wmf" ContentType="image/x-wmf"/>
  <Override PartName="/ppt/media/image6.jpeg" ContentType="image/jpeg"/>
  <Override PartName="/ppt/media/applause.wav" ContentType="audio/x-wav"/>
  <Override PartName="/ppt/media/explode.wav" ContentType="audio/x-wav"/>
  <Override PartName="/ppt/media/driveby.wav" ContentType="audio/x-wav"/>
  <Override PartName="/ppt/media/cashreg.wav" ContentType="audio/x-wav"/>
  <Override PartName="/ppt/media/image12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drumroll.wav" ContentType="audio/x-wav"/>
  <Override PartName="/ppt/media/gunshot.wav" ContentType="audio/x-wav"/>
  <Override PartName="/ppt/media/image15.jpeg" ContentType="image/jpeg"/>
  <Override PartName="/ppt/media/type.wav" ContentType="audio/x-wav"/>
  <Override PartName="/ppt/media/image13.jpeg" ContentType="image/jpeg"/>
  <Override PartName="/ppt/media/projctor.wav" ContentType="audio/x-wav"/>
  <Override PartName="/ppt/media/chimes.wav" ContentType="audio/x-wav"/>
  <Override PartName="/ppt/media/image11.jpeg" ContentType="image/jpeg"/>
  <Override PartName="/ppt/media/image9.jpeg" ContentType="image/jpeg"/>
  <Override PartName="/ppt/media/camera.wav" ContentType="audio/x-wav"/>
  <Override PartName="/ppt/media/image8.jpeg" ContentType="image/jpeg"/>
  <Override PartName="/ppt/media/image10.jpeg" ContentType="image/jpeg"/>
  <Override PartName="/ppt/media/image14.jpeg" ContentType="image/jpeg"/>
  <Override PartName="/ppt/media/carbrake.wav" ContentType="audio/x-wav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E2F-FF63-4717-8ED8-7D350C3D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BE2-0061-4302-B488-073FE782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365-5B36-4491-8082-E93BFD4E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765-8502-435B-8C9F-CCAD0C5E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1F08-4798-42EB-A391-FD935D02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19CA-0688-470B-88A7-8684C699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D905-5984-4E47-B6ED-29CB653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F233-7596-4DF6-8255-1D40F86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5A21-558F-483E-B386-4C757D7C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4EE4-133A-4AA5-B63C-1B26A64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4B8E-EF44-4092-B7F3-C00CC019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91F-3E84-4E9C-9BC0-17636F7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5D35-B435-4601-B898-BE3387AB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58F8-D1D1-494C-9E30-0440EB5D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1ECA-1F33-4D66-B83A-2B10983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4121-1B24-49CA-8541-2BD37667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2945-9461-4EC7-BFCF-55A5C98D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A3A-5153-49F0-85BA-CAE2ABE5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1BF-8F5C-49FE-A12D-2D1EED61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B9E-987F-4EB0-9158-9FE43A06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11F-DA55-45CF-A865-1B94727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F52-0F99-4ADF-9B28-7079D271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75C-72D1-4380-8890-5DA0010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002-8475-4885-A2F0-08F29024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D45-16D2-4867-B16F-C8EAA73FA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FD84-BD58-4A05-AB65-E62DB2513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rds.yahoo.com/S=96062857/K=rosa+parks/v=2/SID=e/l=II/R=60/SS=i/OID=f78d2cf7faef8122/SIG=1fa56ordp/EXP=1137289532/*-http%3A/images.search.yahoo.com/search/images/view?back=http%3A%2F%2Fimages.search.yahoo.com%2Fsearch%2Fimages%3Fp%3Drosa%2Bparks%26s" TargetMode="External"/><Relationship Id="rId4" Type="http://schemas.openxmlformats.org/officeDocument/2006/relationships/hyperlink" Target="http://rds.yahoo.com/S=96062857/K=rosa+parks/v=2/SID=e/l=II/R=60/SS=i/OID=f78d2cf7faef8122/SIG=1fa56ordp/EXP=1137289532/*-http%3A/images.search.yahoo.com/search/images/view?back=http%3A%2F%2Fimages.search.yahoo.com%2Fsearch%2Fimages%3Fp%3Drosa%2Bparks%26s" TargetMode="External"/><Relationship Id="rId5" Type="http://schemas.openxmlformats.org/officeDocument/2006/relationships/image" Target="../media/image3.jpeg"/><Relationship Id="rId6" Type="http://schemas.openxmlformats.org/officeDocument/2006/relationships/audio" Target="../media/chimes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explode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43000"/>
            <a:ext cx="77724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Tahoma"/>
              </a:rPr>
              <a:t>Rosa Parks</a:t>
            </a:r>
            <a:endParaRPr b="0" lang="en-US" sz="9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Tahoma"/>
              </a:rPr>
              <a:t>1913-2005</a:t>
            </a:r>
            <a:endParaRPr b="0" lang="en-US" sz="8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agram Of B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95280" y="1763640"/>
            <a:ext cx="7315200" cy="486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other Police Repo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her Cli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Go to fullsize image"/>
          <p:cNvPicPr/>
          <p:nvPr/>
        </p:nvPicPr>
        <p:blipFill>
          <a:blip r:embed="rId2"/>
          <a:stretch/>
        </p:blipFill>
        <p:spPr>
          <a:xfrm>
            <a:off x="457200" y="1828800"/>
            <a:ext cx="404352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Go to fullsize image"/>
          <p:cNvPicPr/>
          <p:nvPr/>
        </p:nvPicPr>
        <p:blipFill>
          <a:blip r:embed="rId3"/>
          <a:stretch/>
        </p:blipFill>
        <p:spPr>
          <a:xfrm>
            <a:off x="4800600" y="1752480"/>
            <a:ext cx="404640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724320"/>
            <a:ext cx="8686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osa Parks died in 2005 at age 92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6" name="" descr="Go to fullsize image"/>
          <p:cNvPicPr/>
          <p:nvPr/>
        </p:nvPicPr>
        <p:blipFill>
          <a:blip r:embed="rId2"/>
          <a:stretch/>
        </p:blipFill>
        <p:spPr>
          <a:xfrm>
            <a:off x="1447920" y="1257480"/>
            <a:ext cx="57909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 As a K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29080" y="1981080"/>
            <a:ext cx="381456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>
            <a:hlinkClick r:id="rId3"/>
          </p:cNvPr>
          <p:cNvSpPr/>
          <p:nvPr/>
        </p:nvSpPr>
        <p:spPr>
          <a:xfrm>
            <a:off x="419580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612885978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600200"/>
            <a:ext cx="5029200" cy="48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Police Taking Rosa`s Fingerprin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6640" y="2514600"/>
            <a:ext cx="2367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nly tired I wa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tired of giving 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6477120" cy="46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`s Fingerprint C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33720" y="1600200"/>
          <a:ext cx="6400800" cy="480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600200"/>
                    <a:ext cx="6400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eets of Rosa Parks and ML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34204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dlSR__ctl26_imagePreview_thumbnail" descr="42-15941634 - Street signs mark the corner of Rosa Parks Blvd and Martin Luther King Jr Blvd in Detroit"/>
          <p:cNvPicPr/>
          <p:nvPr/>
        </p:nvPicPr>
        <p:blipFill>
          <a:blip r:embed="rId2"/>
          <a:stretch/>
        </p:blipFill>
        <p:spPr>
          <a:xfrm>
            <a:off x="1295280" y="1795320"/>
            <a:ext cx="7467840" cy="460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us Rosa Rode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126120" cy="45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 In Jail ( # 705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1962000"/>
            <a:ext cx="5181840" cy="421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`s Police Repo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6934320" cy="52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 In B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143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1:09:10Z</dcterms:created>
  <dc:creator>Andrew R. Perrong</dc:creator>
  <dc:description/>
  <dc:language>en-US</dc:language>
  <cp:lastModifiedBy>lyerkes</cp:lastModifiedBy>
  <dcterms:modified xsi:type="dcterms:W3CDTF">2011-01-25T17:25:16Z</dcterms:modified>
  <cp:revision>20</cp:revision>
  <dc:subject/>
  <dc:title>Rosa Parks</dc:title>
</cp:coreProperties>
</file>